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117-0A8D-458F-82BC-50B0707C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D36-0BEF-4300-B359-ECFF0060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51B-9F05-461B-96E8-84E058FA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CB4-DD56-44C3-83D3-DBBB8005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EEF-0E4F-472D-94FB-5D646DFB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2EF-E0A9-4E66-A11D-80BB215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A59-7B86-421D-9D5B-C8177F6D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EE6-FE61-4A71-8BAF-DD7A9AC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B14-6B04-4428-B5E5-0313EFD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C20-B1AC-4552-A77E-45459305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450-8246-46C3-9B32-0661642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501-B98B-40E5-A732-9BE2C0D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E6A4-1F7B-44F0-BBDF-3D532228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hold your breath lo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ight and weight effect lung capa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….that larger people will have more lu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l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femal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he participant’s hold their breath as long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height and weight could effect lung capacity I had them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so had them write down what sports they have played during the school year, since their physical activities could effect their brea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                        Sports                                      Height             Weight               Tim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ckyn Fox- Basketball, volleyball, track                    5’4              109 lbs.             1 min. 2 sec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se Buckman- football, basketball, track, golf          5’7              120 lbs.             58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dsy Klein- Basketball, volleyball                              5’7              122 lbs.            1 min. 33 sec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tyn Flickenger- track, volleyball, basketball              5’0               110lbs.             23sec.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 Duncon- Basketball, Football, baseball, tennis  5’10             165lbs.             1min. 15sec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llas Rhodes- Football, basketball, track                    5’3               99lbs.               1min. 30sec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e Slupski- Football, basketball, tennis                     5’7               200 lbs.            25 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rew McPherson- football, basketball, tennis           6’0               133 lbs.            35 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ah Watney- cross-country, tennis                           4’6                90 lbs.             1min. 9 sec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ltyn Flickenger- Basketball, volleyball                       5’4               115lbs.             22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li Casey- none                                                         5’5               190lbs.             35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 Dowell- Basketball, Volleyball, track                      5’6               120lbs.             30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219320"/>
          <a:ext cx="876312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76312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was very surprising to me.  There was no significant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514600" cy="225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2819520" cy="22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71800" y="380988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791320" y="1600200"/>
            <a:ext cx="289548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0:08Z</dcterms:created>
  <dc:creator>USD376</dc:creator>
  <dc:description/>
  <dc:language>en-US</dc:language>
  <cp:lastModifiedBy>STERLING  USD376</cp:lastModifiedBy>
  <dcterms:modified xsi:type="dcterms:W3CDTF">2010-05-10T13:34:26Z</dcterms:modified>
  <cp:revision>12</cp:revision>
  <dc:subject/>
  <dc:title>Title</dc:title>
</cp:coreProperties>
</file>